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5153-429C-463D-A9E8-349B396C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39CF-456A-4F9E-AC4D-9E5072B2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A24D-72A3-4EB8-B3D5-FAA1653C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8BC2-5123-48F7-A589-3F83D900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9E72-4BBA-4514-9EDD-B0816B17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7F0E-E184-4F9E-9956-FC8CD159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F80F-3481-4A9B-80B1-E4DE3788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8E03-48DF-4E7C-A35A-7360E1A3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A1CA-220C-41AB-82DC-4B00C77E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69F0-987C-42E7-BA80-E33BD281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EE39-30DB-4B52-AA70-287C751E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AEE-9768-49FE-B32F-21753D04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1768-27AF-4CBB-B994-29158649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1566-25F3-411C-9A4B-55A93070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45C5-BB4F-4653-A1A3-B7261285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0B87-C444-4971-BA87-8A515C22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9378-2CD4-4954-8544-7B8DE0D9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967F-AA44-4976-BBC0-5F4AFA2C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951F-B008-4F69-B727-A950DA86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C319-291B-42D2-B3A4-C6BF3E83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EAC-7028-40E1-995B-9D214DBA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B27-A866-4FA4-AC65-C4EC8BD4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AA7-8E31-4453-A4DC-9FAF3CB6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A729-6B85-4F4B-8261-AF6AAE3F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3150-1537-4599-B119-273476C9F1A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8645-FE9B-452C-8A6D-1E4CF6DCF30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hem.iastate.edu/group/Greenbowe/sections/projectfolder/animations/CuZncell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00400" y="55627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rti Andreski              De La Salle 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57200"/>
            <a:ext cx="8458200" cy="6172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6400800"/>
            <a:ext cx="152280" cy="2286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85800"/>
            <a:ext cx="77724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lectrochemical Cell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2.11841E-006 C -0.00122 -0.01595 -0.00053 -0.01919 -0.00713 -0.03076 C -0.00799 -0.03538 -0.01008 -0.03977 -0.01008 -0.0444 C -0.01008 -0.05041 -0.00713 -0.05781 -0.00574 -0.0636 C -0.00296 -0.09528 0.00051 -0.12673 0.00433 -0.15818 C 0.00781 -0.23843 0.00399 -0.31753 -5.83333E-006 -0.39778 C 0.00051 -0.42345 0.00086 -0.44912 0.00156 -0.47502 C 0.00225 -0.5 0.00433 -0.55018 0.00433 -0.55018 C 0.0052 -0.61332 0.00763 -0.6716 0.00433 -0.73358 C 0.00381 -0.76572 0.00294 -0.79787 0.00294 -0.83002 C 0.00294 -0.84343 -5.83332999999978E-006 -0.86817 0.01024 -0.87257 C 0.01944 -0.88089 0.03124 -0.88089 0.04201 -0.88228 C 0.05034 -0.87881 0.05781 -0.87766 0.06666 -0.8765 C 0.10503 -0.88344 0.14409 -0.87928 0.18263 -0.88228 C 0.36944 -0.87557 0.55659 -0.88668 0.74357 -0.87072 C 0.74895 -0.87141 0.75451 -0.87049 0.75954 -0.87257 C 0.7611 -0.87326 0.76041 -0.87812 0.76232 -0.87835 C 0.77048 -0.87951 0.77864 -0.87719 0.78697 -0.8765 C 0.79878 -0.87419 0.80537 -0.8728 0.81735 -0.87442 C 0.8519 -0.88459 0.92326 -0.87257 0.92326 -0.87257 C 0.92256 -0.86817 0.92291 -0.86355 0.92169 -0.85915 C 0.92048 -0.8536 0.91596 -0.84366 0.91596 -0.84366 C 0.91319 -0.82886 0.91892 -0.82007 0.92169 -0.80689 C 0.92412 -0.79694 0.92482 -0.78631 0.92603 -0.77613 C 0.92708 -0.76965 0.92794 -0.76318 0.92899 -0.7567 C 0.92951 -0.75277 0.93055 -0.74514 0.93055 -0.74514 C 0.93263 -0.69472 0.93037 -0.64061 0.92447 -0.59065 C 0.91926 -0.49537 0.92829 -0.395 0.93176 -0.29926 C 0.92864 -0.2382 0.92742 -0.17692 0.92447 -0.11586 C 0.92412 -0.1043 0.92378 -0.09273 0.92326 -0.0814 C 0.92239 -0.06128 0.92013 -0.02127 0.92013 -0.02127 C 0.92204 -0.01295 0.92135 0.01226 0.91892 0.01943 C 0.91718 0.02429 0.91319 0.02706 0.91006 0.03099 C 0.90781 0.03423 0.90312 0.03331 0.89999 0.03469 C 0.85746 0.03076 0.8151 0.02591 0.77239 0.02313 C 0.72708 0.01342 0.68159 0.02359 0.6361 0.02891 C 0.61944 0.03516 0.63697 0.02914 0.5986 0.03284 C 0.56666 0.03585 0.53489 0.03932 0.50277 0.04256 C 0.45173 0.04024 0.40051 0.03724 0.3493 0.03469 C 0.33037 0.03053 0.3118 0.03099 0.29287 0.03284 C 0.19201 0.03099 0.09183 0.02128 -0.00869 0.02128 L -5.83333E-006 0.0155 L 0.01024 0.02128 L -5.83333E-006 -2.11841E-006 Z">
                                      <p:cBhvr>
                                        <p:cTn id="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 Physics Student’s Guide to Electrochemistry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typical electrochemical cell (voltaic cell)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as two “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electrod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” – one tends to give up electrons, one tends to take on electrons. This is the very meaning of “potential difference”, which is also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voltag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572000" cy="3981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V="1">
            <a:off x="3733920" y="2590560"/>
            <a:ext cx="914400" cy="685800"/>
          </a:xfrm>
          <a:prstGeom prst="line">
            <a:avLst/>
          </a:prstGeom>
          <a:ln w="38160">
            <a:solidFill>
              <a:srgbClr val="13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2362320"/>
            <a:ext cx="4114800" cy="914400"/>
          </a:xfrm>
          <a:prstGeom prst="line">
            <a:avLst/>
          </a:prstGeom>
          <a:ln w="38160">
            <a:solidFill>
              <a:srgbClr val="13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 “Players”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81280" y="1295280"/>
            <a:ext cx="5029200" cy="4380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2280" y="190512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nnects a strip of Z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124080" y="2057400"/>
            <a:ext cx="11430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2362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ith a strip of C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90920" y="2361960"/>
            <a:ext cx="53337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447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wire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371600" y="1600200"/>
            <a:ext cx="2895480" cy="76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429000"/>
            <a:ext cx="3505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he Zn is immersed in ZnS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3657600"/>
            <a:ext cx="9907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876920"/>
            <a:ext cx="3657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he Cu is immersed in CuS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5105520"/>
            <a:ext cx="297180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670720"/>
            <a:ext cx="533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2 solutions are connected by a “Salt Bridge”, completing the circuit but preventing the sol’n from mi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629400" y="4571640"/>
            <a:ext cx="76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254560"/>
            <a:ext cx="327672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ANIMATION: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18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http://www.chem.iastate.edu/group/Greenbowe/sections/projectfolder/animations/CuZncell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Whenever Two Metals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4724280" cy="4114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mbine, one always has a greater ability to give up electrons than the other.  Therefore, that’s exactly what happens… the one with the greater ability to LOSE electrons is OXIDIZ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2057400"/>
            <a:ext cx="1905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When Zn and Cu combine, it’s the Zn that has the greater ability to LOSE electron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50292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e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1905120"/>
            <a:ext cx="1981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When the charge reaches the Cu, Cu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+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ions come out of solution and combine with the e-’s to make Cu me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54864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u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aramond"/>
              </a:rPr>
              <a:t>+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4724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962520"/>
            <a:ext cx="228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s Zn loses e-, Zn metal becomes Zn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+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and goes in to solution.  The “half cell” rxn is:                  Zn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Zn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+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+2e- and Zn is oxidized (or wears awa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5410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Z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aramond"/>
              </a:rPr>
              <a:t>+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4294080"/>
            <a:ext cx="198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he Cu, then, is said to be electronically “reduced” since it goes from          Cu</a:t>
            </a:r>
            <a:r>
              <a:rPr b="1" lang="en-US" sz="1800" spc="-1" strike="noStrike" baseline="30000">
                <a:solidFill>
                  <a:srgbClr val="ffffff"/>
                </a:solidFill>
                <a:latin typeface="Garamond"/>
              </a:rPr>
              <a:t>+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+ 2e- 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Cu</a:t>
            </a:r>
            <a:r>
              <a:rPr b="1" lang="en-US" sz="1800" spc="-1" strike="noStrike" baseline="30000">
                <a:solidFill>
                  <a:srgbClr val="ffffff"/>
                </a:solidFill>
                <a:latin typeface="Garamond"/>
              </a:rPr>
              <a:t>0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(Cu “builds up” on the Cu electro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5715000"/>
            <a:ext cx="304560" cy="228600"/>
          </a:xfrm>
          <a:prstGeom prst="ellipse">
            <a:avLst/>
          </a:prstGeom>
          <a:gradFill rotWithShape="0">
            <a:gsLst>
              <a:gs pos="0">
                <a:srgbClr val="c0c0c0">
                  <a:alpha val="48235"/>
                </a:srgbClr>
              </a:gs>
              <a:gs pos="100000">
                <a:srgbClr val="585858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638680"/>
            <a:ext cx="304560" cy="228600"/>
          </a:xfrm>
          <a:prstGeom prst="ellipse">
            <a:avLst/>
          </a:prstGeom>
          <a:gradFill rotWithShape="0">
            <a:gsLst>
              <a:gs pos="0">
                <a:srgbClr val="c0c0c0">
                  <a:alpha val="48235"/>
                </a:srgbClr>
              </a:gs>
              <a:gs pos="100000">
                <a:srgbClr val="585858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5.20231E-006 L 0.05 0.04438 E">
                                      <p:cBhvr>
                                        <p:cTn id="54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-4.50867E-006 C -0.00417 -0.01687 0.00052 -0.03907 -0.00643 -0.05479 C -0.00886 -0.06011 -0.0132 -0.06474 -0.01598 -0.06959 C -0.01823 -0.07375 -0.02223 -0.08231 -0.02223 -0.08231 C -0.03056 -0.11653 -0.02084 -0.07468 -0.02535 -0.17317 C -0.02605 -0.19028 -0.03056 -0.20924 -0.03334 -0.22612 C -0.03716 -0.24994 -0.03855 -0.28809 -0.04931 -0.30843 C -0.05035 -0.3126 -0.05139 -0.31699 -0.05244 -0.32115 C -0.05296 -0.32323 -0.054 -0.32763 -0.054 -0.32763 C -0.05244 -0.34173 -0.05296 -0.34635 -0.04289 -0.35075 C -0.03178 -0.36115 -0.01771 -0.36208 -0.00487 -0.36554 C 0.08142 -0.36208 0.02916 -0.37664 0.05555 -0.35283 C 0.06076 -0.34242 0.07048 -0.33572 0.07933 -0.33179 C 0.08576 -0.33248 0.09218 -0.33225 0.09843 -0.33387 C 0.10277 -0.33502 0.1085 -0.34219 0.11267 -0.3445 C 0.1217 -0.34982 0.13177 -0.35283 0.14131 -0.35514 C 0.15347 -0.35375 0.16614 -0.35375 0.17777 -0.34867 C 0.18437 -0.32208 0.21579 -0.33965 0.2302 -0.34034 C 0.24097 -0.34982 0.23593 -0.34705 0.24444 -0.35075 C 0.24982 -0.35838 0.24617 -0.35445 0.25711 -0.3593 C 0.25867 -0.36 0.26024 -0.36069 0.2618 -0.36138 C 0.26336 -0.36208 0.26666 -0.36346 0.26666 -0.36346 C 0.2842 -0.36277 0.30156 -0.36254 0.31909 -0.36138 C 0.32291 -0.36115 0.3269 -0.36161 0.3302 -0.3593 C 0.33472 -0.3563 0.32795 -0.34682 0.33802 -0.34242 C 0.35503 -0.31976 0.34149 -0.25063 0.34131 -0.243 C 0.34114 -0.23606 0.3394 -0.23237 0.33802 -0.22612 C 0.33315 -0.20346 0.32604 -0.18242 0.32065 -0.16046 C 0.31631 -0.14265 0.31718 -0.12346 0.31267 -0.10566 C 0.30867 -0.06196 0.31354 -0.1193 0.30954 -0.02959 C 0.3092 -0.0215 0.30468 -0.00624 0.30468 -0.00624 C 0.30312 0.00625 0.30225 0.02058 0.29513 0.0296 C 0.2901 0.04995 0.29427 0.07191 0.28732 0.0911 L 0.28576 0.07839 E">
                                      <p:cBhvr>
                                        <p:cTn id="5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78035E-008 L 0.05 -0.08879 E">
                                      <p:cBhvr>
                                        <p:cTn id="73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ver Time…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4572000" cy="39812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35053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Zn electrode wears away, and the Z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+2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becomes more concentrated in the Zn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solution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4267080"/>
            <a:ext cx="3505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hile more and more Cu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+2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ions come out of solution, combining with electrons and forming more Cu metal (“plating” of Cu on 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39625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aramond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 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aramond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aramond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aramond"/>
              </a:rPr>
              <a:t>+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20988600">
            <a:off x="5181480" y="3657240"/>
            <a:ext cx="88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81680" y="3505320"/>
            <a:ext cx="1447920" cy="1676160"/>
          </a:xfrm>
          <a:prstGeom prst="rect">
            <a:avLst/>
          </a:prstGeom>
          <a:solidFill>
            <a:srgbClr val="ffffff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606600">
            <a:off x="7769160" y="3530520"/>
            <a:ext cx="22860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5295960" cy="5105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5334120" cy="1743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0"/>
            <a:ext cx="22860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685800"/>
            <a:ext cx="2666880" cy="5791320"/>
          </a:xfrm>
          <a:prstGeom prst="rect">
            <a:avLst/>
          </a:prstGeom>
          <a:gradFill rotWithShape="0">
            <a:gsLst>
              <a:gs pos="0">
                <a:srgbClr val="175e5e">
                  <a:alpha val="17254"/>
                </a:srgbClr>
              </a:gs>
              <a:gs pos="100000">
                <a:srgbClr val="33cccc">
                  <a:alpha val="18039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066680"/>
            <a:ext cx="2895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ore easily oxid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Give up e- easi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685800"/>
            <a:ext cx="2590920" cy="6172200"/>
          </a:xfrm>
          <a:prstGeom prst="rect">
            <a:avLst/>
          </a:prstGeom>
          <a:gradFill rotWithShape="0">
            <a:gsLst>
              <a:gs pos="0">
                <a:srgbClr val="ff3300">
                  <a:alpha val="17254"/>
                </a:srgbClr>
              </a:gs>
              <a:gs pos="100000">
                <a:srgbClr val="751700">
                  <a:alpha val="17254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6629400"/>
            <a:ext cx="2590920" cy="228600"/>
          </a:xfrm>
          <a:prstGeom prst="rect">
            <a:avLst/>
          </a:prstGeom>
          <a:gradFill rotWithShape="0">
            <a:gsLst>
              <a:gs pos="0">
                <a:srgbClr val="ff3300">
                  <a:alpha val="18039"/>
                </a:srgbClr>
              </a:gs>
              <a:gs pos="100000">
                <a:srgbClr val="751700">
                  <a:alpha val="18039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2286000"/>
            <a:ext cx="3124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ore easily redu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Take up e- easi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5295960" cy="5105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5334120" cy="1743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9000" y="0"/>
            <a:ext cx="22860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sing the SRP Chart to Determine Cell Vol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14400"/>
            <a:ext cx="3124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pair combined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Zn and C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3657600"/>
            <a:ext cx="2666880" cy="152280"/>
          </a:xfrm>
          <a:prstGeom prst="rect">
            <a:avLst/>
          </a:prstGeom>
          <a:gradFill rotWithShape="0">
            <a:gsLst>
              <a:gs pos="0">
                <a:srgbClr val="b9efee">
                  <a:alpha val="27058"/>
                </a:srgbClr>
              </a:gs>
              <a:gs pos="100000">
                <a:srgbClr val="556e6d">
                  <a:alpha val="2705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838080"/>
            <a:ext cx="2590920" cy="152640"/>
          </a:xfrm>
          <a:prstGeom prst="rect">
            <a:avLst/>
          </a:prstGeom>
          <a:gradFill rotWithShape="0">
            <a:gsLst>
              <a:gs pos="0">
                <a:srgbClr val="ff3300">
                  <a:alpha val="18039"/>
                </a:srgbClr>
              </a:gs>
              <a:gs pos="100000">
                <a:srgbClr val="751700">
                  <a:alpha val="29019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1600200"/>
            <a:ext cx="2590920" cy="152280"/>
          </a:xfrm>
          <a:prstGeom prst="rect">
            <a:avLst/>
          </a:prstGeom>
          <a:gradFill rotWithShape="0">
            <a:gsLst>
              <a:gs pos="0">
                <a:srgbClr val="ff3300">
                  <a:alpha val="18039"/>
                </a:srgbClr>
              </a:gs>
              <a:gs pos="100000">
                <a:srgbClr val="751700">
                  <a:alpha val="29019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1295280"/>
            <a:ext cx="2590920" cy="152640"/>
          </a:xfrm>
          <a:prstGeom prst="rect">
            <a:avLst/>
          </a:prstGeom>
          <a:gradFill rotWithShape="0">
            <a:gsLst>
              <a:gs pos="0">
                <a:srgbClr val="ff3300">
                  <a:alpha val="18039"/>
                </a:srgbClr>
              </a:gs>
              <a:gs pos="100000">
                <a:srgbClr val="751700">
                  <a:alpha val="29019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9051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re are 3 locations for Cu; which is us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743200"/>
            <a:ext cx="28195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We have to know the reaction.  Cu</a:t>
            </a:r>
            <a:r>
              <a:rPr b="1" lang="en-US" sz="1800" spc="-1" strike="noStrike" baseline="30000">
                <a:solidFill>
                  <a:srgbClr val="ffffff"/>
                </a:solidFill>
                <a:latin typeface="Garamond"/>
              </a:rPr>
              <a:t>+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ions are coming out of solution and becoming Cu metal, so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u</a:t>
            </a:r>
            <a:r>
              <a:rPr b="1" lang="en-US" sz="1800" spc="-1" strike="noStrike" baseline="30000">
                <a:solidFill>
                  <a:srgbClr val="ffffff"/>
                </a:solidFill>
                <a:latin typeface="Garamond"/>
              </a:rPr>
              <a:t>+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+ 2e- 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C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495680"/>
            <a:ext cx="32004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ince Zn is higher on the table, it is the oxidized half; Cu is reduced.  NOTE:  is the form Zn</a:t>
            </a:r>
            <a:r>
              <a:rPr b="1" lang="en-US" sz="1800" spc="-1" strike="noStrike" baseline="30000">
                <a:solidFill>
                  <a:srgbClr val="ffffff"/>
                </a:solidFill>
                <a:latin typeface="Garamond"/>
              </a:rPr>
              <a:t>+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+ 2e- 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Zn written as an oxidation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(LOSS OF e- = oxidation!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SRP : 25</a:t>
            </a:r>
            <a:r>
              <a:rPr b="1" lang="en-US" sz="2400" spc="-1" strike="noStrike" baseline="30000">
                <a:solidFill>
                  <a:srgbClr val="b9efee"/>
                </a:solidFill>
                <a:latin typeface="Garamond"/>
              </a:rPr>
              <a:t>o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C and 1.0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M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  aqueous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11240"/>
          <a:ext cx="8610480" cy="674676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73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   -3.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s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Cs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 -2.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K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    -2.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b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Rb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-2.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Ba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-2.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r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+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Sr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-2.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Ca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-2.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Na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-2.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g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Mg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-2.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Be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-1.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l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3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3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Al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-1.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n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Mn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-1.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n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Zn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-0.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3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3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Cr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-0.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e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Fe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-0.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3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Cr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-0.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d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Cd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-0.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l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Tl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  -0.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Co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-0.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i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Ni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-0.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n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Sn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-0.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b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Pb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-0.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his may be easier to read when print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H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H</a:t>
                      </a:r>
                      <a:r>
                        <a:rPr b="1" lang="en-US" sz="16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            0.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+ 2 H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H</a:t>
                      </a:r>
                      <a:r>
                        <a:rPr b="1" lang="en-US" sz="16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 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0.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n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4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Sn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        0.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u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Cu+                                0.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u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Cu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            0.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u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Cu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                0.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</a:t>
                      </a:r>
                      <a:r>
                        <a:rPr b="1" lang="en-US" sz="16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 I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         0.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e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3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Fe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           0.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g</a:t>
                      </a:r>
                      <a:r>
                        <a:rPr b="1" lang="en-US" sz="16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 Hg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       0.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g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Ag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                0.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g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Hg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           0.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Hg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Hg</a:t>
                      </a:r>
                      <a:r>
                        <a:rPr b="1" lang="en-US" sz="16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0.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r</a:t>
                      </a:r>
                      <a:r>
                        <a:rPr b="1" lang="en-US" sz="16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 Br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      1.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</a:t>
                      </a:r>
                      <a:r>
                        <a:rPr b="1" lang="en-US" sz="16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+ 4 H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4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 H</a:t>
                      </a:r>
                      <a:r>
                        <a:rPr b="1" lang="en-US" sz="16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1.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</a:t>
                      </a:r>
                      <a:r>
                        <a:rPr b="1" lang="en-US" sz="16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 Cl 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   1.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3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3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Au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            1.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3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Co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         1.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</a:t>
                      </a:r>
                      <a:r>
                        <a:rPr b="1" lang="en-US" sz="16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 F 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-                                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horthand &amp; Calculation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b|Rb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|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+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F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the expected voltage if Cr and K make an electrochemical cell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w, Work on your handout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2:40:56Z</dcterms:created>
  <dc:creator>GCPS</dc:creator>
  <dc:description/>
  <dc:language>en-US</dc:language>
  <cp:lastModifiedBy>andreskim</cp:lastModifiedBy>
  <dcterms:modified xsi:type="dcterms:W3CDTF">2005-03-10T17:22:57Z</dcterms:modified>
  <cp:revision>93</cp:revision>
  <dc:subject/>
  <dc:title>Nuclear Physics Projects</dc:title>
</cp:coreProperties>
</file>